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5948-F734-461B-8D2E-8C3ED111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E8D-7C17-4F59-A09E-6E747612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D48F-6B0F-4013-8B07-C0371200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A85-F1E0-4E6C-9B95-1489602A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F7A5-91C0-4C5F-95F1-1065BC07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7C2F-FCCE-41CF-B7D9-A1B72F68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E3C9-D3DB-4ECA-9C60-254270A7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BB08-E83F-4FDB-BB7F-91F466FC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557E-5D67-4177-A7D4-1F3D4AF6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F6F3-1A4F-409E-9CE5-2717D1DF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E518-A0D4-4EC1-9A01-0EA38C35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ECA-F046-4B3F-8662-47E35386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2DEC-00AA-4EDE-9B7A-79C12612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67F3-9D49-4DC6-8E67-DAA5FFC0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4D5C-3AA4-4509-B5DB-A81E1649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4237-7059-46FA-9360-A37163BA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1741-3558-4C0D-BA95-3F6C9DE6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D26A2-19C5-4B2C-B2EA-F79E2C81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FBCC09-7B34-486F-84D0-C2F74CD3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8C33AD-61DC-4B69-941F-CC3B75BE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2D46B-9943-4D18-8AAC-C6646DEF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4AA027-338B-43DF-B3DA-0AD51343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58D-1AD4-4342-BEBE-ED2EA6CB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E523B-45DF-44ED-83BC-FB2A7E60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65224-484F-4B38-9E1A-ADADC72F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E27F1-A469-4984-8311-EE59E9AC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B0E7B-1CA0-4139-8F08-2A7E857A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86FAE-F607-4950-99B1-1C6FE18C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D13C3-8647-4CFF-BEBB-3C89FF7D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FAD7D-8889-4F96-BF78-72775022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E8412-94BB-472E-A789-9F355565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4C21F-2A4F-4E3F-B6DE-7E3B9050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63832-9995-48B5-996A-3FCD35DD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FDB-BD49-4567-BCB5-84A18A62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8B641-060A-4B67-9E77-645F3569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1EB3B-D485-4C73-9AB5-7A712694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22FEE-DAB1-40F7-8341-8500271A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2449B-4A67-41E8-8189-2845AB0B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1BE6A-678B-461C-B55C-4DD436FA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DD162-25D3-4EC7-9884-A130E9FA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6F4B9-A692-429A-8E70-5F56B93E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8D030-E27D-49CC-873E-203DD15E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48580-5A03-46BE-8D35-13D5504A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9F68-22E8-47E1-95E8-42A3091F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063-F888-4EC0-83A0-32815B3B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BD5-0571-4EB6-AD52-037566A1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D5D-20AC-49B3-84C4-7C277F88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CF2-FD66-4232-B607-EC589FD9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af7"/>
            </a:gs>
            <a:gs pos="100000">
              <a:srgbClr val="608d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9080">
            <a:solidFill>
              <a:srgbClr val="0b87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b6fd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915E-F6D1-45A0-A6FB-57A65E92B2F0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af7"/>
            </a:gs>
            <a:gs pos="100000">
              <a:srgbClr val="608d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9080">
            <a:solidFill>
              <a:srgbClr val="0b87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b6fd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1b6f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E930-50A0-4DD7-9462-B8BC84C082FE}" type="slidenum">
              <a:rPr b="0" lang="ru-RU" sz="1200" spc="-1" strike="noStrike">
                <a:solidFill>
                  <a:srgbClr val="31b6f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af7"/>
            </a:gs>
            <a:gs pos="100000">
              <a:srgbClr val="608d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9080">
            <a:solidFill>
              <a:srgbClr val="0b87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b6fd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4959-D478-4376-97F2-0E57AB85EF19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af7"/>
            </a:gs>
            <a:gs pos="100000">
              <a:srgbClr val="608d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9080">
            <a:solidFill>
              <a:srgbClr val="0b87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31f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b6fd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B58D-052E-45F5-9028-D212DFCF9D9A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6" name="AutoShape 5">
            <a:hlinkClick r:id="" action="ppaction://hlinkshowjump?jump=nextslide"/>
          </p:cNvPr>
          <p:cNvSpPr/>
          <p:nvPr/>
        </p:nvSpPr>
        <p:spPr>
          <a:xfrm>
            <a:off x="8292960" y="6348240"/>
            <a:ext cx="540000" cy="433440"/>
          </a:xfrm>
          <a:custGeom>
            <a:avLst/>
            <a:gdLst>
              <a:gd name="textAreaLeft" fmla="*/ 28080 w 540000"/>
              <a:gd name="textAreaRight" fmla="*/ 511920 w 5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906" h="21600">
                <a:moveTo>
                  <a:pt x="0" y="0"/>
                </a:moveTo>
                <a:lnTo>
                  <a:pt x="26906" y="0"/>
                </a:lnTo>
                <a:lnTo>
                  <a:pt x="26906" y="21600"/>
                </a:lnTo>
                <a:lnTo>
                  <a:pt x="0" y="21600"/>
                </a:lnTo>
                <a:close/>
              </a:path>
              <a:path fill="lightenLess" w="26906" h="21600">
                <a:moveTo>
                  <a:pt x="0" y="0"/>
                </a:moveTo>
                <a:lnTo>
                  <a:pt x="26906" y="0"/>
                </a:lnTo>
                <a:lnTo>
                  <a:pt x="25506" y="1400"/>
                </a:lnTo>
                <a:lnTo>
                  <a:pt x="1400" y="1400"/>
                </a:lnTo>
                <a:close/>
              </a:path>
              <a:path fill="darken" w="26906" h="21600">
                <a:moveTo>
                  <a:pt x="26906" y="0"/>
                </a:moveTo>
                <a:lnTo>
                  <a:pt x="26906" y="21600"/>
                </a:lnTo>
                <a:lnTo>
                  <a:pt x="25506" y="20200"/>
                </a:lnTo>
                <a:lnTo>
                  <a:pt x="25506" y="1400"/>
                </a:lnTo>
                <a:close/>
              </a:path>
              <a:path fill="darkenLess" w="26906" h="21600">
                <a:moveTo>
                  <a:pt x="26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6" y="20200"/>
                </a:lnTo>
                <a:close/>
              </a:path>
              <a:path fill="lighten" w="26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6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Прямоугольник 1" descr=""/>
          <p:cNvPicPr/>
          <p:nvPr/>
        </p:nvPicPr>
        <p:blipFill>
          <a:blip r:embed="rId1"/>
          <a:stretch/>
        </p:blipFill>
        <p:spPr>
          <a:xfrm>
            <a:off x="652320" y="2798640"/>
            <a:ext cx="7839360" cy="1455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1042560" y="2323800"/>
            <a:ext cx="71247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pic>
        <p:nvPicPr>
          <p:cNvPr id="339" name="Picture 6" descr="C:\Users\ЛП\AppData\Local\Microsoft\Windows\Temporary Internet Files\Content.IE5\2SKPNG28\MC900441366[1].png"/>
          <p:cNvPicPr/>
          <p:nvPr/>
        </p:nvPicPr>
        <p:blipFill>
          <a:blip r:embed="rId2"/>
          <a:stretch/>
        </p:blipFill>
        <p:spPr>
          <a:xfrm>
            <a:off x="1619280" y="404640"/>
            <a:ext cx="5832360" cy="288000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5" descr=""/>
          <p:cNvPicPr/>
          <p:nvPr/>
        </p:nvPicPr>
        <p:blipFill>
          <a:blip r:embed="rId3"/>
          <a:stretch/>
        </p:blipFill>
        <p:spPr>
          <a:xfrm>
            <a:off x="2687760" y="1023840"/>
            <a:ext cx="3670200" cy="15177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9" descr="C:\Users\ЛП\AppData\Local\Microsoft\Windows\Temporary Internet Files\Content.IE5\BL7ZF7AK\MC900433847[1].png"/>
          <p:cNvPicPr/>
          <p:nvPr/>
        </p:nvPicPr>
        <p:blipFill>
          <a:blip r:embed="rId4"/>
          <a:stretch/>
        </p:blipFill>
        <p:spPr>
          <a:xfrm>
            <a:off x="478800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опрос № 7</a:t>
            </a:r>
            <a:endParaRPr b="0" lang="en-US" sz="28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4000" y="1844640"/>
            <a:ext cx="7530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текстовом редакторе основными параметрами при задании шрифта являются: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) отступ, интервал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) гарнитура, размер, начертание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) стиль, шаблон.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8305920" y="6095880"/>
            <a:ext cx="552240" cy="547920"/>
          </a:xfrm>
          <a:custGeom>
            <a:avLst/>
            <a:gdLst>
              <a:gd name="textAreaLeft" fmla="*/ 35280 w 552240"/>
              <a:gd name="textAreaRight" fmla="*/ 516960 w 552240"/>
              <a:gd name="textAreaTop" fmla="*/ 35280 h 547920"/>
              <a:gd name="textAreaBottom" fmla="*/ 512640 h 547920"/>
            </a:gdLst>
            <a:ahLst/>
            <a:rect l="textAreaLeft" t="textAreaTop" r="textAreaRight" b="textAreaBottom"/>
            <a:pathLst>
              <a:path w="21770" h="21600">
                <a:moveTo>
                  <a:pt x="0" y="0"/>
                </a:moveTo>
                <a:lnTo>
                  <a:pt x="21770" y="0"/>
                </a:lnTo>
                <a:lnTo>
                  <a:pt x="21770" y="21600"/>
                </a:lnTo>
                <a:lnTo>
                  <a:pt x="0" y="21600"/>
                </a:lnTo>
                <a:close/>
              </a:path>
              <a:path fill="lightenLess" w="21770" h="21600">
                <a:moveTo>
                  <a:pt x="0" y="0"/>
                </a:moveTo>
                <a:lnTo>
                  <a:pt x="21770" y="0"/>
                </a:lnTo>
                <a:lnTo>
                  <a:pt x="20370" y="1400"/>
                </a:lnTo>
                <a:lnTo>
                  <a:pt x="1400" y="1400"/>
                </a:lnTo>
                <a:close/>
              </a:path>
              <a:path fill="darken" w="21770" h="21600">
                <a:moveTo>
                  <a:pt x="21770" y="0"/>
                </a:moveTo>
                <a:lnTo>
                  <a:pt x="21770" y="21600"/>
                </a:lnTo>
                <a:lnTo>
                  <a:pt x="20370" y="20200"/>
                </a:lnTo>
                <a:lnTo>
                  <a:pt x="20370" y="1400"/>
                </a:lnTo>
                <a:close/>
              </a:path>
              <a:path fill="darkenLess" w="21770" h="21600">
                <a:moveTo>
                  <a:pt x="21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70" y="20200"/>
                </a:lnTo>
                <a:close/>
              </a:path>
              <a:path fill="lighten" w="21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70" h="21600">
                <a:moveTo>
                  <a:pt x="10885" y="3837"/>
                </a:moveTo>
                <a:lnTo>
                  <a:pt x="13461" y="6448"/>
                </a:ln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lnTo>
                  <a:pt x="17848" y="10800"/>
                </a:lnTo>
                <a:lnTo>
                  <a:pt x="16194" y="10800"/>
                </a:lnTo>
                <a:lnTo>
                  <a:pt x="16194" y="17989"/>
                </a:lnTo>
                <a:lnTo>
                  <a:pt x="5576" y="17989"/>
                </a:lnTo>
                <a:lnTo>
                  <a:pt x="5576" y="10800"/>
                </a:lnTo>
                <a:lnTo>
                  <a:pt x="3922" y="10800"/>
                </a:lnTo>
                <a:close/>
              </a:path>
              <a:path fill="darkenLess" w="21770" h="21600">
                <a:moveTo>
                  <a:pt x="13461" y="6448"/>
                </a:move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close/>
              </a:path>
              <a:path fill="darkenLess" w="21770" h="21600">
                <a:moveTo>
                  <a:pt x="9963" y="14299"/>
                </a:moveTo>
                <a:lnTo>
                  <a:pt x="11808" y="14299"/>
                </a:lnTo>
                <a:lnTo>
                  <a:pt x="11808" y="17989"/>
                </a:lnTo>
                <a:lnTo>
                  <a:pt x="16194" y="17989"/>
                </a:lnTo>
                <a:lnTo>
                  <a:pt x="16194" y="10800"/>
                </a:lnTo>
                <a:lnTo>
                  <a:pt x="5576" y="10800"/>
                </a:lnTo>
                <a:lnTo>
                  <a:pt x="5576" y="17989"/>
                </a:lnTo>
                <a:lnTo>
                  <a:pt x="9963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опрос № 8</a:t>
            </a:r>
            <a:endParaRPr b="0" lang="en-US" sz="28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55640" y="1628280"/>
            <a:ext cx="77040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Процедура автоматического форматирования текста предусматривает: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1) запись текста в буфер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2) удаление текста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3) автоматическое расположение текста в соответствии с определёнными правилами.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8305920" y="6095880"/>
            <a:ext cx="552240" cy="547920"/>
          </a:xfrm>
          <a:custGeom>
            <a:avLst/>
            <a:gdLst>
              <a:gd name="textAreaLeft" fmla="*/ 35280 w 552240"/>
              <a:gd name="textAreaRight" fmla="*/ 516960 w 552240"/>
              <a:gd name="textAreaTop" fmla="*/ 35280 h 547920"/>
              <a:gd name="textAreaBottom" fmla="*/ 512640 h 547920"/>
            </a:gdLst>
            <a:ahLst/>
            <a:rect l="textAreaLeft" t="textAreaTop" r="textAreaRight" b="textAreaBottom"/>
            <a:pathLst>
              <a:path w="21770" h="21600">
                <a:moveTo>
                  <a:pt x="0" y="0"/>
                </a:moveTo>
                <a:lnTo>
                  <a:pt x="21770" y="0"/>
                </a:lnTo>
                <a:lnTo>
                  <a:pt x="21770" y="21600"/>
                </a:lnTo>
                <a:lnTo>
                  <a:pt x="0" y="21600"/>
                </a:lnTo>
                <a:close/>
              </a:path>
              <a:path fill="lightenLess" w="21770" h="21600">
                <a:moveTo>
                  <a:pt x="0" y="0"/>
                </a:moveTo>
                <a:lnTo>
                  <a:pt x="21770" y="0"/>
                </a:lnTo>
                <a:lnTo>
                  <a:pt x="20370" y="1400"/>
                </a:lnTo>
                <a:lnTo>
                  <a:pt x="1400" y="1400"/>
                </a:lnTo>
                <a:close/>
              </a:path>
              <a:path fill="darken" w="21770" h="21600">
                <a:moveTo>
                  <a:pt x="21770" y="0"/>
                </a:moveTo>
                <a:lnTo>
                  <a:pt x="21770" y="21600"/>
                </a:lnTo>
                <a:lnTo>
                  <a:pt x="20370" y="20200"/>
                </a:lnTo>
                <a:lnTo>
                  <a:pt x="20370" y="1400"/>
                </a:lnTo>
                <a:close/>
              </a:path>
              <a:path fill="darkenLess" w="21770" h="21600">
                <a:moveTo>
                  <a:pt x="21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70" y="20200"/>
                </a:lnTo>
                <a:close/>
              </a:path>
              <a:path fill="lighten" w="21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70" h="21600">
                <a:moveTo>
                  <a:pt x="10885" y="3837"/>
                </a:moveTo>
                <a:lnTo>
                  <a:pt x="13461" y="6448"/>
                </a:ln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lnTo>
                  <a:pt x="17848" y="10800"/>
                </a:lnTo>
                <a:lnTo>
                  <a:pt x="16194" y="10800"/>
                </a:lnTo>
                <a:lnTo>
                  <a:pt x="16194" y="17989"/>
                </a:lnTo>
                <a:lnTo>
                  <a:pt x="5576" y="17989"/>
                </a:lnTo>
                <a:lnTo>
                  <a:pt x="5576" y="10800"/>
                </a:lnTo>
                <a:lnTo>
                  <a:pt x="3922" y="10800"/>
                </a:lnTo>
                <a:close/>
              </a:path>
              <a:path fill="darkenLess" w="21770" h="21600">
                <a:moveTo>
                  <a:pt x="13461" y="6448"/>
                </a:move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close/>
              </a:path>
              <a:path fill="darkenLess" w="21770" h="21600">
                <a:moveTo>
                  <a:pt x="9963" y="14299"/>
                </a:moveTo>
                <a:lnTo>
                  <a:pt x="11808" y="14299"/>
                </a:lnTo>
                <a:lnTo>
                  <a:pt x="11808" y="17989"/>
                </a:lnTo>
                <a:lnTo>
                  <a:pt x="16194" y="17989"/>
                </a:lnTo>
                <a:lnTo>
                  <a:pt x="16194" y="10800"/>
                </a:lnTo>
                <a:lnTo>
                  <a:pt x="5576" y="10800"/>
                </a:lnTo>
                <a:lnTo>
                  <a:pt x="5576" y="17989"/>
                </a:lnTo>
                <a:lnTo>
                  <a:pt x="9963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опрос № 9</a:t>
            </a:r>
            <a:endParaRPr b="0" lang="en-US" sz="28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09560" y="1700280"/>
            <a:ext cx="787248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В текстовом редакторе при задании параметров страницы устанавливаются: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1) отступ, интервал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2) поля, ориентация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3) стиль, шаблон.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8305920" y="6095880"/>
            <a:ext cx="552240" cy="547920"/>
          </a:xfrm>
          <a:custGeom>
            <a:avLst/>
            <a:gdLst>
              <a:gd name="textAreaLeft" fmla="*/ 35280 w 552240"/>
              <a:gd name="textAreaRight" fmla="*/ 516960 w 552240"/>
              <a:gd name="textAreaTop" fmla="*/ 35280 h 547920"/>
              <a:gd name="textAreaBottom" fmla="*/ 512640 h 547920"/>
            </a:gdLst>
            <a:ahLst/>
            <a:rect l="textAreaLeft" t="textAreaTop" r="textAreaRight" b="textAreaBottom"/>
            <a:pathLst>
              <a:path w="21770" h="21600">
                <a:moveTo>
                  <a:pt x="0" y="0"/>
                </a:moveTo>
                <a:lnTo>
                  <a:pt x="21770" y="0"/>
                </a:lnTo>
                <a:lnTo>
                  <a:pt x="21770" y="21600"/>
                </a:lnTo>
                <a:lnTo>
                  <a:pt x="0" y="21600"/>
                </a:lnTo>
                <a:close/>
              </a:path>
              <a:path fill="lightenLess" w="21770" h="21600">
                <a:moveTo>
                  <a:pt x="0" y="0"/>
                </a:moveTo>
                <a:lnTo>
                  <a:pt x="21770" y="0"/>
                </a:lnTo>
                <a:lnTo>
                  <a:pt x="20370" y="1400"/>
                </a:lnTo>
                <a:lnTo>
                  <a:pt x="1400" y="1400"/>
                </a:lnTo>
                <a:close/>
              </a:path>
              <a:path fill="darken" w="21770" h="21600">
                <a:moveTo>
                  <a:pt x="21770" y="0"/>
                </a:moveTo>
                <a:lnTo>
                  <a:pt x="21770" y="21600"/>
                </a:lnTo>
                <a:lnTo>
                  <a:pt x="20370" y="20200"/>
                </a:lnTo>
                <a:lnTo>
                  <a:pt x="20370" y="1400"/>
                </a:lnTo>
                <a:close/>
              </a:path>
              <a:path fill="darkenLess" w="21770" h="21600">
                <a:moveTo>
                  <a:pt x="21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70" y="20200"/>
                </a:lnTo>
                <a:close/>
              </a:path>
              <a:path fill="lighten" w="21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70" h="21600">
                <a:moveTo>
                  <a:pt x="10885" y="3837"/>
                </a:moveTo>
                <a:lnTo>
                  <a:pt x="13461" y="6448"/>
                </a:ln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lnTo>
                  <a:pt x="17848" y="10800"/>
                </a:lnTo>
                <a:lnTo>
                  <a:pt x="16194" y="10800"/>
                </a:lnTo>
                <a:lnTo>
                  <a:pt x="16194" y="17989"/>
                </a:lnTo>
                <a:lnTo>
                  <a:pt x="5576" y="17989"/>
                </a:lnTo>
                <a:lnTo>
                  <a:pt x="5576" y="10800"/>
                </a:lnTo>
                <a:lnTo>
                  <a:pt x="3922" y="10800"/>
                </a:lnTo>
                <a:close/>
              </a:path>
              <a:path fill="darkenLess" w="21770" h="21600">
                <a:moveTo>
                  <a:pt x="13461" y="6448"/>
                </a:move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close/>
              </a:path>
              <a:path fill="darkenLess" w="21770" h="21600">
                <a:moveTo>
                  <a:pt x="9963" y="14299"/>
                </a:moveTo>
                <a:lnTo>
                  <a:pt x="11808" y="14299"/>
                </a:lnTo>
                <a:lnTo>
                  <a:pt x="11808" y="17989"/>
                </a:lnTo>
                <a:lnTo>
                  <a:pt x="16194" y="17989"/>
                </a:lnTo>
                <a:lnTo>
                  <a:pt x="16194" y="10800"/>
                </a:lnTo>
                <a:lnTo>
                  <a:pt x="5576" y="10800"/>
                </a:lnTo>
                <a:lnTo>
                  <a:pt x="5576" y="17989"/>
                </a:lnTo>
                <a:lnTo>
                  <a:pt x="9963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05" dur="2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опрос № 10</a:t>
            </a:r>
            <a:endParaRPr b="0" lang="en-US" sz="28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4000" y="1571400"/>
            <a:ext cx="77994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Меню текстового редактора — это: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1) часть его интерфейса, обеспечивающая переход к выполнению различных операций над текстом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2) своеобразное «окно», через которое текст просматривается на экране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3) информация о текущем состоянии текстового редактора.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8305920" y="6095880"/>
            <a:ext cx="552240" cy="547920"/>
          </a:xfrm>
          <a:custGeom>
            <a:avLst/>
            <a:gdLst>
              <a:gd name="textAreaLeft" fmla="*/ 35280 w 552240"/>
              <a:gd name="textAreaRight" fmla="*/ 516960 w 552240"/>
              <a:gd name="textAreaTop" fmla="*/ 35280 h 547920"/>
              <a:gd name="textAreaBottom" fmla="*/ 512640 h 547920"/>
            </a:gdLst>
            <a:ahLst/>
            <a:rect l="textAreaLeft" t="textAreaTop" r="textAreaRight" b="textAreaBottom"/>
            <a:pathLst>
              <a:path w="21770" h="21600">
                <a:moveTo>
                  <a:pt x="0" y="0"/>
                </a:moveTo>
                <a:lnTo>
                  <a:pt x="21770" y="0"/>
                </a:lnTo>
                <a:lnTo>
                  <a:pt x="21770" y="21600"/>
                </a:lnTo>
                <a:lnTo>
                  <a:pt x="0" y="21600"/>
                </a:lnTo>
                <a:close/>
              </a:path>
              <a:path fill="lightenLess" w="21770" h="21600">
                <a:moveTo>
                  <a:pt x="0" y="0"/>
                </a:moveTo>
                <a:lnTo>
                  <a:pt x="21770" y="0"/>
                </a:lnTo>
                <a:lnTo>
                  <a:pt x="20370" y="1400"/>
                </a:lnTo>
                <a:lnTo>
                  <a:pt x="1400" y="1400"/>
                </a:lnTo>
                <a:close/>
              </a:path>
              <a:path fill="darken" w="21770" h="21600">
                <a:moveTo>
                  <a:pt x="21770" y="0"/>
                </a:moveTo>
                <a:lnTo>
                  <a:pt x="21770" y="21600"/>
                </a:lnTo>
                <a:lnTo>
                  <a:pt x="20370" y="20200"/>
                </a:lnTo>
                <a:lnTo>
                  <a:pt x="20370" y="1400"/>
                </a:lnTo>
                <a:close/>
              </a:path>
              <a:path fill="darkenLess" w="21770" h="21600">
                <a:moveTo>
                  <a:pt x="21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70" y="20200"/>
                </a:lnTo>
                <a:close/>
              </a:path>
              <a:path fill="lighten" w="21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70" h="21600">
                <a:moveTo>
                  <a:pt x="10885" y="3837"/>
                </a:moveTo>
                <a:lnTo>
                  <a:pt x="13461" y="6448"/>
                </a:ln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lnTo>
                  <a:pt x="17848" y="10800"/>
                </a:lnTo>
                <a:lnTo>
                  <a:pt x="16194" y="10800"/>
                </a:lnTo>
                <a:lnTo>
                  <a:pt x="16194" y="17989"/>
                </a:lnTo>
                <a:lnTo>
                  <a:pt x="5576" y="17989"/>
                </a:lnTo>
                <a:lnTo>
                  <a:pt x="5576" y="10800"/>
                </a:lnTo>
                <a:lnTo>
                  <a:pt x="3922" y="10800"/>
                </a:lnTo>
                <a:close/>
              </a:path>
              <a:path fill="darkenLess" w="21770" h="21600">
                <a:moveTo>
                  <a:pt x="13461" y="6448"/>
                </a:move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close/>
              </a:path>
              <a:path fill="darkenLess" w="21770" h="21600">
                <a:moveTo>
                  <a:pt x="9963" y="14299"/>
                </a:moveTo>
                <a:lnTo>
                  <a:pt x="11808" y="14299"/>
                </a:lnTo>
                <a:lnTo>
                  <a:pt x="11808" y="17989"/>
                </a:lnTo>
                <a:lnTo>
                  <a:pt x="16194" y="17989"/>
                </a:lnTo>
                <a:lnTo>
                  <a:pt x="16194" y="10800"/>
                </a:lnTo>
                <a:lnTo>
                  <a:pt x="5576" y="10800"/>
                </a:lnTo>
                <a:lnTo>
                  <a:pt x="5576" y="17989"/>
                </a:lnTo>
                <a:lnTo>
                  <a:pt x="9963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опрос № 11</a:t>
            </a:r>
            <a:endParaRPr b="0" lang="en-US" sz="28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20360" y="1628640"/>
            <a:ext cx="77389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Поиск слова в тексте по заданному образцу является процессом: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1) обработки информации; 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2) хранения информации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3) передачи информации.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8305920" y="6095880"/>
            <a:ext cx="552240" cy="547920"/>
          </a:xfrm>
          <a:custGeom>
            <a:avLst/>
            <a:gdLst>
              <a:gd name="textAreaLeft" fmla="*/ 35280 w 552240"/>
              <a:gd name="textAreaRight" fmla="*/ 516960 w 552240"/>
              <a:gd name="textAreaTop" fmla="*/ 35280 h 547920"/>
              <a:gd name="textAreaBottom" fmla="*/ 512640 h 547920"/>
            </a:gdLst>
            <a:ahLst/>
            <a:rect l="textAreaLeft" t="textAreaTop" r="textAreaRight" b="textAreaBottom"/>
            <a:pathLst>
              <a:path w="21770" h="21600">
                <a:moveTo>
                  <a:pt x="0" y="0"/>
                </a:moveTo>
                <a:lnTo>
                  <a:pt x="21770" y="0"/>
                </a:lnTo>
                <a:lnTo>
                  <a:pt x="21770" y="21600"/>
                </a:lnTo>
                <a:lnTo>
                  <a:pt x="0" y="21600"/>
                </a:lnTo>
                <a:close/>
              </a:path>
              <a:path fill="lightenLess" w="21770" h="21600">
                <a:moveTo>
                  <a:pt x="0" y="0"/>
                </a:moveTo>
                <a:lnTo>
                  <a:pt x="21770" y="0"/>
                </a:lnTo>
                <a:lnTo>
                  <a:pt x="20370" y="1400"/>
                </a:lnTo>
                <a:lnTo>
                  <a:pt x="1400" y="1400"/>
                </a:lnTo>
                <a:close/>
              </a:path>
              <a:path fill="darken" w="21770" h="21600">
                <a:moveTo>
                  <a:pt x="21770" y="0"/>
                </a:moveTo>
                <a:lnTo>
                  <a:pt x="21770" y="21600"/>
                </a:lnTo>
                <a:lnTo>
                  <a:pt x="20370" y="20200"/>
                </a:lnTo>
                <a:lnTo>
                  <a:pt x="20370" y="1400"/>
                </a:lnTo>
                <a:close/>
              </a:path>
              <a:path fill="darkenLess" w="21770" h="21600">
                <a:moveTo>
                  <a:pt x="21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70" y="20200"/>
                </a:lnTo>
                <a:close/>
              </a:path>
              <a:path fill="lighten" w="21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70" h="21600">
                <a:moveTo>
                  <a:pt x="10885" y="3837"/>
                </a:moveTo>
                <a:lnTo>
                  <a:pt x="13461" y="6448"/>
                </a:ln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lnTo>
                  <a:pt x="17848" y="10800"/>
                </a:lnTo>
                <a:lnTo>
                  <a:pt x="16194" y="10800"/>
                </a:lnTo>
                <a:lnTo>
                  <a:pt x="16194" y="17989"/>
                </a:lnTo>
                <a:lnTo>
                  <a:pt x="5576" y="17989"/>
                </a:lnTo>
                <a:lnTo>
                  <a:pt x="5576" y="10800"/>
                </a:lnTo>
                <a:lnTo>
                  <a:pt x="3922" y="10800"/>
                </a:lnTo>
                <a:close/>
              </a:path>
              <a:path fill="darkenLess" w="21770" h="21600">
                <a:moveTo>
                  <a:pt x="13461" y="6448"/>
                </a:move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close/>
              </a:path>
              <a:path fill="darkenLess" w="21770" h="21600">
                <a:moveTo>
                  <a:pt x="9963" y="14299"/>
                </a:moveTo>
                <a:lnTo>
                  <a:pt x="11808" y="14299"/>
                </a:lnTo>
                <a:lnTo>
                  <a:pt x="11808" y="17989"/>
                </a:lnTo>
                <a:lnTo>
                  <a:pt x="16194" y="17989"/>
                </a:lnTo>
                <a:lnTo>
                  <a:pt x="16194" y="10800"/>
                </a:lnTo>
                <a:lnTo>
                  <a:pt x="5576" y="10800"/>
                </a:lnTo>
                <a:lnTo>
                  <a:pt x="5576" y="17989"/>
                </a:lnTo>
                <a:lnTo>
                  <a:pt x="9963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20" dur="2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опрос № 12</a:t>
            </a:r>
            <a:endParaRPr b="0" lang="en-US" sz="28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28280" y="1539720"/>
            <a:ext cx="773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Текст, набранный в текстовом редакторе, хранится на внешнем запоминающем устройстве (магнитном, оптическом дисках и др.):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1) в виде файла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2) таблицы кодировки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3) каталога.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8305920" y="6095880"/>
            <a:ext cx="552240" cy="547920"/>
          </a:xfrm>
          <a:custGeom>
            <a:avLst/>
            <a:gdLst>
              <a:gd name="textAreaLeft" fmla="*/ 35280 w 552240"/>
              <a:gd name="textAreaRight" fmla="*/ 516960 w 552240"/>
              <a:gd name="textAreaTop" fmla="*/ 35280 h 547920"/>
              <a:gd name="textAreaBottom" fmla="*/ 512640 h 547920"/>
            </a:gdLst>
            <a:ahLst/>
            <a:rect l="textAreaLeft" t="textAreaTop" r="textAreaRight" b="textAreaBottom"/>
            <a:pathLst>
              <a:path w="21770" h="21600">
                <a:moveTo>
                  <a:pt x="0" y="0"/>
                </a:moveTo>
                <a:lnTo>
                  <a:pt x="21770" y="0"/>
                </a:lnTo>
                <a:lnTo>
                  <a:pt x="21770" y="21600"/>
                </a:lnTo>
                <a:lnTo>
                  <a:pt x="0" y="21600"/>
                </a:lnTo>
                <a:close/>
              </a:path>
              <a:path fill="lightenLess" w="21770" h="21600">
                <a:moveTo>
                  <a:pt x="0" y="0"/>
                </a:moveTo>
                <a:lnTo>
                  <a:pt x="21770" y="0"/>
                </a:lnTo>
                <a:lnTo>
                  <a:pt x="20370" y="1400"/>
                </a:lnTo>
                <a:lnTo>
                  <a:pt x="1400" y="1400"/>
                </a:lnTo>
                <a:close/>
              </a:path>
              <a:path fill="darken" w="21770" h="21600">
                <a:moveTo>
                  <a:pt x="21770" y="0"/>
                </a:moveTo>
                <a:lnTo>
                  <a:pt x="21770" y="21600"/>
                </a:lnTo>
                <a:lnTo>
                  <a:pt x="20370" y="20200"/>
                </a:lnTo>
                <a:lnTo>
                  <a:pt x="20370" y="1400"/>
                </a:lnTo>
                <a:close/>
              </a:path>
              <a:path fill="darkenLess" w="21770" h="21600">
                <a:moveTo>
                  <a:pt x="21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70" y="20200"/>
                </a:lnTo>
                <a:close/>
              </a:path>
              <a:path fill="lighten" w="21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70" h="21600">
                <a:moveTo>
                  <a:pt x="10885" y="3837"/>
                </a:moveTo>
                <a:lnTo>
                  <a:pt x="13461" y="6448"/>
                </a:ln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lnTo>
                  <a:pt x="17848" y="10800"/>
                </a:lnTo>
                <a:lnTo>
                  <a:pt x="16194" y="10800"/>
                </a:lnTo>
                <a:lnTo>
                  <a:pt x="16194" y="17989"/>
                </a:lnTo>
                <a:lnTo>
                  <a:pt x="5576" y="17989"/>
                </a:lnTo>
                <a:lnTo>
                  <a:pt x="5576" y="10800"/>
                </a:lnTo>
                <a:lnTo>
                  <a:pt x="3922" y="10800"/>
                </a:lnTo>
                <a:close/>
              </a:path>
              <a:path fill="darkenLess" w="21770" h="21600">
                <a:moveTo>
                  <a:pt x="13461" y="6448"/>
                </a:move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close/>
              </a:path>
              <a:path fill="darkenLess" w="21770" h="21600">
                <a:moveTo>
                  <a:pt x="9963" y="14299"/>
                </a:moveTo>
                <a:lnTo>
                  <a:pt x="11808" y="14299"/>
                </a:lnTo>
                <a:lnTo>
                  <a:pt x="11808" y="17989"/>
                </a:lnTo>
                <a:lnTo>
                  <a:pt x="16194" y="17989"/>
                </a:lnTo>
                <a:lnTo>
                  <a:pt x="16194" y="10800"/>
                </a:lnTo>
                <a:lnTo>
                  <a:pt x="5576" y="10800"/>
                </a:lnTo>
                <a:lnTo>
                  <a:pt x="5576" y="17989"/>
                </a:lnTo>
                <a:lnTo>
                  <a:pt x="9963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опрос № 13</a:t>
            </a:r>
            <a:endParaRPr b="0" lang="en-US" sz="28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4360" y="1699920"/>
            <a:ext cx="7627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При считывании документа с диска пользователь должен указать: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1) размеры файла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2) тип файла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3) ИМЯ файла.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8305920" y="6095880"/>
            <a:ext cx="552240" cy="547920"/>
          </a:xfrm>
          <a:custGeom>
            <a:avLst/>
            <a:gdLst>
              <a:gd name="textAreaLeft" fmla="*/ 35280 w 552240"/>
              <a:gd name="textAreaRight" fmla="*/ 516960 w 552240"/>
              <a:gd name="textAreaTop" fmla="*/ 35280 h 547920"/>
              <a:gd name="textAreaBottom" fmla="*/ 512640 h 547920"/>
            </a:gdLst>
            <a:ahLst/>
            <a:rect l="textAreaLeft" t="textAreaTop" r="textAreaRight" b="textAreaBottom"/>
            <a:pathLst>
              <a:path w="21770" h="21600">
                <a:moveTo>
                  <a:pt x="0" y="0"/>
                </a:moveTo>
                <a:lnTo>
                  <a:pt x="21770" y="0"/>
                </a:lnTo>
                <a:lnTo>
                  <a:pt x="21770" y="21600"/>
                </a:lnTo>
                <a:lnTo>
                  <a:pt x="0" y="21600"/>
                </a:lnTo>
                <a:close/>
              </a:path>
              <a:path fill="lightenLess" w="21770" h="21600">
                <a:moveTo>
                  <a:pt x="0" y="0"/>
                </a:moveTo>
                <a:lnTo>
                  <a:pt x="21770" y="0"/>
                </a:lnTo>
                <a:lnTo>
                  <a:pt x="20370" y="1400"/>
                </a:lnTo>
                <a:lnTo>
                  <a:pt x="1400" y="1400"/>
                </a:lnTo>
                <a:close/>
              </a:path>
              <a:path fill="darken" w="21770" h="21600">
                <a:moveTo>
                  <a:pt x="21770" y="0"/>
                </a:moveTo>
                <a:lnTo>
                  <a:pt x="21770" y="21600"/>
                </a:lnTo>
                <a:lnTo>
                  <a:pt x="20370" y="20200"/>
                </a:lnTo>
                <a:lnTo>
                  <a:pt x="20370" y="1400"/>
                </a:lnTo>
                <a:close/>
              </a:path>
              <a:path fill="darkenLess" w="21770" h="21600">
                <a:moveTo>
                  <a:pt x="21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70" y="20200"/>
                </a:lnTo>
                <a:close/>
              </a:path>
              <a:path fill="lighten" w="21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70" h="21600">
                <a:moveTo>
                  <a:pt x="10885" y="3837"/>
                </a:moveTo>
                <a:lnTo>
                  <a:pt x="13461" y="6448"/>
                </a:ln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lnTo>
                  <a:pt x="17848" y="10800"/>
                </a:lnTo>
                <a:lnTo>
                  <a:pt x="16194" y="10800"/>
                </a:lnTo>
                <a:lnTo>
                  <a:pt x="16194" y="17989"/>
                </a:lnTo>
                <a:lnTo>
                  <a:pt x="5576" y="17989"/>
                </a:lnTo>
                <a:lnTo>
                  <a:pt x="5576" y="10800"/>
                </a:lnTo>
                <a:lnTo>
                  <a:pt x="3922" y="10800"/>
                </a:lnTo>
                <a:close/>
              </a:path>
              <a:path fill="darkenLess" w="21770" h="21600">
                <a:moveTo>
                  <a:pt x="13461" y="6448"/>
                </a:move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close/>
              </a:path>
              <a:path fill="darkenLess" w="21770" h="21600">
                <a:moveTo>
                  <a:pt x="9963" y="14299"/>
                </a:moveTo>
                <a:lnTo>
                  <a:pt x="11808" y="14299"/>
                </a:lnTo>
                <a:lnTo>
                  <a:pt x="11808" y="17989"/>
                </a:lnTo>
                <a:lnTo>
                  <a:pt x="16194" y="17989"/>
                </a:lnTo>
                <a:lnTo>
                  <a:pt x="16194" y="10800"/>
                </a:lnTo>
                <a:lnTo>
                  <a:pt x="5576" y="10800"/>
                </a:lnTo>
                <a:lnTo>
                  <a:pt x="5576" y="17989"/>
                </a:lnTo>
                <a:lnTo>
                  <a:pt x="9963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35" dur="2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опрос № 14</a:t>
            </a:r>
            <a:endParaRPr b="0" lang="en-US" sz="28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09560" y="1700280"/>
            <a:ext cx="787248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Гипертекст - это: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) очень большой текст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) структурированный текст, в котором могут осуществляться переходы по выделенным меткам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55680" indent="-355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) текст, в котором используется шрифт большого размера.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8305920" y="6095880"/>
            <a:ext cx="552240" cy="547920"/>
          </a:xfrm>
          <a:custGeom>
            <a:avLst/>
            <a:gdLst>
              <a:gd name="textAreaLeft" fmla="*/ 35280 w 552240"/>
              <a:gd name="textAreaRight" fmla="*/ 516960 w 552240"/>
              <a:gd name="textAreaTop" fmla="*/ 35280 h 547920"/>
              <a:gd name="textAreaBottom" fmla="*/ 512640 h 547920"/>
            </a:gdLst>
            <a:ahLst/>
            <a:rect l="textAreaLeft" t="textAreaTop" r="textAreaRight" b="textAreaBottom"/>
            <a:pathLst>
              <a:path w="21770" h="21600">
                <a:moveTo>
                  <a:pt x="0" y="0"/>
                </a:moveTo>
                <a:lnTo>
                  <a:pt x="21770" y="0"/>
                </a:lnTo>
                <a:lnTo>
                  <a:pt x="21770" y="21600"/>
                </a:lnTo>
                <a:lnTo>
                  <a:pt x="0" y="21600"/>
                </a:lnTo>
                <a:close/>
              </a:path>
              <a:path fill="lightenLess" w="21770" h="21600">
                <a:moveTo>
                  <a:pt x="0" y="0"/>
                </a:moveTo>
                <a:lnTo>
                  <a:pt x="21770" y="0"/>
                </a:lnTo>
                <a:lnTo>
                  <a:pt x="20370" y="1400"/>
                </a:lnTo>
                <a:lnTo>
                  <a:pt x="1400" y="1400"/>
                </a:lnTo>
                <a:close/>
              </a:path>
              <a:path fill="darken" w="21770" h="21600">
                <a:moveTo>
                  <a:pt x="21770" y="0"/>
                </a:moveTo>
                <a:lnTo>
                  <a:pt x="21770" y="21600"/>
                </a:lnTo>
                <a:lnTo>
                  <a:pt x="20370" y="20200"/>
                </a:lnTo>
                <a:lnTo>
                  <a:pt x="20370" y="1400"/>
                </a:lnTo>
                <a:close/>
              </a:path>
              <a:path fill="darkenLess" w="21770" h="21600">
                <a:moveTo>
                  <a:pt x="21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70" y="20200"/>
                </a:lnTo>
                <a:close/>
              </a:path>
              <a:path fill="lighten" w="21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70" h="21600">
                <a:moveTo>
                  <a:pt x="10885" y="3837"/>
                </a:moveTo>
                <a:lnTo>
                  <a:pt x="13461" y="6448"/>
                </a:ln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lnTo>
                  <a:pt x="17848" y="10800"/>
                </a:lnTo>
                <a:lnTo>
                  <a:pt x="16194" y="10800"/>
                </a:lnTo>
                <a:lnTo>
                  <a:pt x="16194" y="17989"/>
                </a:lnTo>
                <a:lnTo>
                  <a:pt x="5576" y="17989"/>
                </a:lnTo>
                <a:lnTo>
                  <a:pt x="5576" y="10800"/>
                </a:lnTo>
                <a:lnTo>
                  <a:pt x="3922" y="10800"/>
                </a:lnTo>
                <a:close/>
              </a:path>
              <a:path fill="darkenLess" w="21770" h="21600">
                <a:moveTo>
                  <a:pt x="13461" y="6448"/>
                </a:move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close/>
              </a:path>
              <a:path fill="darkenLess" w="21770" h="21600">
                <a:moveTo>
                  <a:pt x="9963" y="14299"/>
                </a:moveTo>
                <a:lnTo>
                  <a:pt x="11808" y="14299"/>
                </a:lnTo>
                <a:lnTo>
                  <a:pt x="11808" y="17989"/>
                </a:lnTo>
                <a:lnTo>
                  <a:pt x="16194" y="17989"/>
                </a:lnTo>
                <a:lnTo>
                  <a:pt x="16194" y="10800"/>
                </a:lnTo>
                <a:lnTo>
                  <a:pt x="5576" y="10800"/>
                </a:lnTo>
                <a:lnTo>
                  <a:pt x="5576" y="17989"/>
                </a:lnTo>
                <a:lnTo>
                  <a:pt x="9963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cc"/>
                </a:solidFill>
                <a:uFillTx/>
                <a:latin typeface="Times New Roman"/>
              </a:rPr>
              <a:t>Задание 3.</a:t>
            </a:r>
            <a:endParaRPr b="0" lang="en-US" sz="32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entury Gothic"/>
                <a:ea typeface="Times New Roman"/>
              </a:rPr>
              <a:t>  </a:t>
            </a:r>
            <a:r>
              <a:rPr b="0" lang="ru-RU" sz="3200" spc="-1" strike="noStrike">
                <a:solidFill>
                  <a:srgbClr val="073e87"/>
                </a:solidFill>
                <a:latin typeface="Century Gothic"/>
                <a:ea typeface="Times New Roman"/>
              </a:rPr>
              <a:t>Произвести редактирование текстового документа.</a:t>
            </a:r>
            <a:endParaRPr b="0" lang="en-US" sz="32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12144" y="3837"/>
                </a:moveTo>
                <a:lnTo>
                  <a:pt x="14721" y="6448"/>
                </a:lnTo>
                <a:lnTo>
                  <a:pt x="14721" y="4707"/>
                </a:lnTo>
                <a:lnTo>
                  <a:pt x="16496" y="4707"/>
                </a:lnTo>
                <a:lnTo>
                  <a:pt x="16496" y="8224"/>
                </a:lnTo>
                <a:lnTo>
                  <a:pt x="19107" y="10800"/>
                </a:lnTo>
                <a:lnTo>
                  <a:pt x="17454" y="10800"/>
                </a:lnTo>
                <a:lnTo>
                  <a:pt x="17454" y="17989"/>
                </a:lnTo>
                <a:lnTo>
                  <a:pt x="6835" y="17989"/>
                </a:lnTo>
                <a:lnTo>
                  <a:pt x="6835" y="10800"/>
                </a:lnTo>
                <a:lnTo>
                  <a:pt x="5181" y="10800"/>
                </a:lnTo>
                <a:close/>
              </a:path>
              <a:path fill="darkenLess" w="24289" h="21600">
                <a:moveTo>
                  <a:pt x="14721" y="6448"/>
                </a:moveTo>
                <a:lnTo>
                  <a:pt x="14721" y="4707"/>
                </a:lnTo>
                <a:lnTo>
                  <a:pt x="16496" y="4707"/>
                </a:lnTo>
                <a:lnTo>
                  <a:pt x="16496" y="8224"/>
                </a:lnTo>
                <a:close/>
              </a:path>
              <a:path fill="darkenLess" w="24289" h="21600">
                <a:moveTo>
                  <a:pt x="11222" y="14299"/>
                </a:moveTo>
                <a:lnTo>
                  <a:pt x="13067" y="14299"/>
                </a:lnTo>
                <a:lnTo>
                  <a:pt x="13067" y="17989"/>
                </a:lnTo>
                <a:lnTo>
                  <a:pt x="17454" y="17989"/>
                </a:lnTo>
                <a:lnTo>
                  <a:pt x="17454" y="10800"/>
                </a:lnTo>
                <a:lnTo>
                  <a:pt x="6835" y="10800"/>
                </a:lnTo>
                <a:lnTo>
                  <a:pt x="6835" y="17989"/>
                </a:lnTo>
                <a:lnTo>
                  <a:pt x="11222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5">
            <a:hlinkClick r:id="" action="ppaction://hlinkshowjump?jump=nextslide"/>
          </p:cNvPr>
          <p:cNvSpPr/>
          <p:nvPr/>
        </p:nvSpPr>
        <p:spPr>
          <a:xfrm>
            <a:off x="7531200" y="6186600"/>
            <a:ext cx="539640" cy="433440"/>
          </a:xfrm>
          <a:custGeom>
            <a:avLst/>
            <a:gdLst>
              <a:gd name="textAreaLeft" fmla="*/ 28080 w 539640"/>
              <a:gd name="textAreaRight" fmla="*/ 511560 w 5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888" h="21600">
                <a:moveTo>
                  <a:pt x="0" y="0"/>
                </a:moveTo>
                <a:lnTo>
                  <a:pt x="26888" y="0"/>
                </a:lnTo>
                <a:lnTo>
                  <a:pt x="26888" y="21600"/>
                </a:lnTo>
                <a:lnTo>
                  <a:pt x="0" y="21600"/>
                </a:lnTo>
                <a:close/>
              </a:path>
              <a:path fill="lightenLess" w="26888" h="21600">
                <a:moveTo>
                  <a:pt x="0" y="0"/>
                </a:moveTo>
                <a:lnTo>
                  <a:pt x="26888" y="0"/>
                </a:lnTo>
                <a:lnTo>
                  <a:pt x="25488" y="1400"/>
                </a:lnTo>
                <a:lnTo>
                  <a:pt x="1400" y="1400"/>
                </a:lnTo>
                <a:close/>
              </a:path>
              <a:path fill="darken" w="26888" h="21600">
                <a:moveTo>
                  <a:pt x="26888" y="0"/>
                </a:moveTo>
                <a:lnTo>
                  <a:pt x="26888" y="21600"/>
                </a:lnTo>
                <a:lnTo>
                  <a:pt x="25488" y="20200"/>
                </a:lnTo>
                <a:lnTo>
                  <a:pt x="25488" y="1400"/>
                </a:lnTo>
                <a:close/>
              </a:path>
              <a:path fill="darkenLess" w="26888" h="21600">
                <a:moveTo>
                  <a:pt x="268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8" y="20200"/>
                </a:lnTo>
                <a:close/>
              </a:path>
              <a:path fill="lighten" w="268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8" h="21600">
                <a:moveTo>
                  <a:pt x="6438" y="3794"/>
                </a:moveTo>
                <a:lnTo>
                  <a:pt x="20450" y="10800"/>
                </a:lnTo>
                <a:lnTo>
                  <a:pt x="6438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cc"/>
                </a:solidFill>
                <a:uFillTx/>
                <a:latin typeface="Times New Roman"/>
              </a:rPr>
              <a:t>Задание 4.</a:t>
            </a:r>
            <a:endParaRPr b="0" lang="en-US" sz="32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entury Gothic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73e87"/>
                </a:solidFill>
                <a:latin typeface="Century Gothic"/>
                <a:ea typeface="Times New Roman"/>
              </a:rPr>
              <a:t>Создать векторный рисунок на тему нашего конкурса.</a:t>
            </a:r>
            <a:endParaRPr b="0" lang="en-US" sz="32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12144" y="3837"/>
                </a:moveTo>
                <a:lnTo>
                  <a:pt x="14721" y="6448"/>
                </a:lnTo>
                <a:lnTo>
                  <a:pt x="14721" y="4707"/>
                </a:lnTo>
                <a:lnTo>
                  <a:pt x="16496" y="4707"/>
                </a:lnTo>
                <a:lnTo>
                  <a:pt x="16496" y="8224"/>
                </a:lnTo>
                <a:lnTo>
                  <a:pt x="19107" y="10800"/>
                </a:lnTo>
                <a:lnTo>
                  <a:pt x="17454" y="10800"/>
                </a:lnTo>
                <a:lnTo>
                  <a:pt x="17454" y="17989"/>
                </a:lnTo>
                <a:lnTo>
                  <a:pt x="6835" y="17989"/>
                </a:lnTo>
                <a:lnTo>
                  <a:pt x="6835" y="10800"/>
                </a:lnTo>
                <a:lnTo>
                  <a:pt x="5181" y="10800"/>
                </a:lnTo>
                <a:close/>
              </a:path>
              <a:path fill="darkenLess" w="24289" h="21600">
                <a:moveTo>
                  <a:pt x="14721" y="6448"/>
                </a:moveTo>
                <a:lnTo>
                  <a:pt x="14721" y="4707"/>
                </a:lnTo>
                <a:lnTo>
                  <a:pt x="16496" y="4707"/>
                </a:lnTo>
                <a:lnTo>
                  <a:pt x="16496" y="8224"/>
                </a:lnTo>
                <a:close/>
              </a:path>
              <a:path fill="darkenLess" w="24289" h="21600">
                <a:moveTo>
                  <a:pt x="11222" y="14299"/>
                </a:moveTo>
                <a:lnTo>
                  <a:pt x="13067" y="14299"/>
                </a:lnTo>
                <a:lnTo>
                  <a:pt x="13067" y="17989"/>
                </a:lnTo>
                <a:lnTo>
                  <a:pt x="17454" y="17989"/>
                </a:lnTo>
                <a:lnTo>
                  <a:pt x="17454" y="10800"/>
                </a:lnTo>
                <a:lnTo>
                  <a:pt x="6835" y="10800"/>
                </a:lnTo>
                <a:lnTo>
                  <a:pt x="6835" y="17989"/>
                </a:lnTo>
                <a:lnTo>
                  <a:pt x="11222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20252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Первое задание конкурса.</a:t>
            </a:r>
            <a:br>
              <a:rPr sz="3200"/>
            </a:b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</a:rPr>
              <a:t>Команда «Точка»                              Команда «Запятая»</a:t>
            </a:r>
            <a:r>
              <a:rPr b="0" lang="ru-RU" sz="2200" spc="-1" strike="noStrike">
                <a:solidFill>
                  <a:srgbClr val="31b6f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1b6fd"/>
              </a:solidFill>
              <a:latin typeface="Century Gothic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84360" y="2060640"/>
          <a:ext cx="3305160" cy="2376360"/>
        </p:xfrm>
        <a:graphic>
          <a:graphicData uri="http://schemas.openxmlformats.org/drawingml/2006/table">
            <a:tbl>
              <a:tblPr/>
              <a:tblGrid>
                <a:gridCol w="1101600"/>
                <a:gridCol w="1101600"/>
                <a:gridCol w="11019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Ь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187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344" name="AutoShape 6">
            <a:hlinkClick r:id="" action="ppaction://hlinkshowjump?jump=nextslide"/>
          </p:cNvPr>
          <p:cNvSpPr/>
          <p:nvPr/>
        </p:nvSpPr>
        <p:spPr>
          <a:xfrm>
            <a:off x="8102520" y="6324480"/>
            <a:ext cx="540000" cy="432000"/>
          </a:xfrm>
          <a:custGeom>
            <a:avLst/>
            <a:gdLst>
              <a:gd name="textAreaLeft" fmla="*/ 27720 w 540000"/>
              <a:gd name="textAreaRight" fmla="*/ 512280 w 540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6996" h="21600">
                <a:moveTo>
                  <a:pt x="0" y="0"/>
                </a:moveTo>
                <a:lnTo>
                  <a:pt x="26996" y="0"/>
                </a:lnTo>
                <a:lnTo>
                  <a:pt x="26996" y="21600"/>
                </a:lnTo>
                <a:lnTo>
                  <a:pt x="0" y="21600"/>
                </a:lnTo>
                <a:close/>
              </a:path>
              <a:path fill="lightenLess" w="26996" h="21600">
                <a:moveTo>
                  <a:pt x="0" y="0"/>
                </a:moveTo>
                <a:lnTo>
                  <a:pt x="26996" y="0"/>
                </a:lnTo>
                <a:lnTo>
                  <a:pt x="25596" y="1400"/>
                </a:lnTo>
                <a:lnTo>
                  <a:pt x="1400" y="1400"/>
                </a:lnTo>
                <a:close/>
              </a:path>
              <a:path fill="darken" w="26996" h="21600">
                <a:moveTo>
                  <a:pt x="26996" y="0"/>
                </a:moveTo>
                <a:lnTo>
                  <a:pt x="26996" y="21600"/>
                </a:lnTo>
                <a:lnTo>
                  <a:pt x="25596" y="20200"/>
                </a:lnTo>
                <a:lnTo>
                  <a:pt x="25596" y="1400"/>
                </a:lnTo>
                <a:close/>
              </a:path>
              <a:path fill="darkenLess" w="26996" h="21600">
                <a:moveTo>
                  <a:pt x="26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6" y="20200"/>
                </a:lnTo>
                <a:close/>
              </a:path>
              <a:path fill="lighten" w="26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6" h="21600">
                <a:moveTo>
                  <a:pt x="6491" y="3794"/>
                </a:moveTo>
                <a:lnTo>
                  <a:pt x="20504" y="10800"/>
                </a:lnTo>
                <a:lnTo>
                  <a:pt x="6491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5148360" y="2133720"/>
          <a:ext cx="3317760" cy="2303280"/>
        </p:xfrm>
        <a:graphic>
          <a:graphicData uri="http://schemas.openxmlformats.org/drawingml/2006/table">
            <a:tbl>
              <a:tblPr/>
              <a:tblGrid>
                <a:gridCol w="1106280"/>
                <a:gridCol w="1104840"/>
                <a:gridCol w="1106640"/>
              </a:tblGrid>
              <a:tr h="115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15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pic>
        <p:nvPicPr>
          <p:cNvPr id="346" name="Прямоугольник 2" descr=""/>
          <p:cNvPicPr/>
          <p:nvPr/>
        </p:nvPicPr>
        <p:blipFill>
          <a:blip r:embed="rId1"/>
          <a:stretch/>
        </p:blipFill>
        <p:spPr>
          <a:xfrm>
            <a:off x="609480" y="4840200"/>
            <a:ext cx="3376800" cy="151776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оугольник 3" descr=""/>
          <p:cNvPicPr/>
          <p:nvPr/>
        </p:nvPicPr>
        <p:blipFill>
          <a:blip r:embed="rId2"/>
          <a:stretch/>
        </p:blipFill>
        <p:spPr>
          <a:xfrm>
            <a:off x="5224320" y="4840200"/>
            <a:ext cx="3194280" cy="1457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0246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</a:rPr>
              <a:t>Содержание</a:t>
            </a:r>
            <a:endParaRPr b="0" lang="en-US" sz="32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55280" y="1196640"/>
            <a:ext cx="33116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2401"/>
              </a:spcBef>
              <a:buClr>
                <a:srgbClr val="5eaeff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ff"/>
                </a:solidFill>
                <a:uFillTx/>
                <a:latin typeface="Times New Roman"/>
                <a:hlinkClick r:id="rId1" action="ppaction://hlinksldjump"/>
              </a:rPr>
              <a:t>Вопрос № 1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2401"/>
              </a:spcBef>
              <a:buClr>
                <a:srgbClr val="5eaeff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ff"/>
                </a:solidFill>
                <a:uFillTx/>
                <a:latin typeface="Times New Roman"/>
                <a:hlinkClick r:id="rId2" action="ppaction://hlinksldjump"/>
              </a:rPr>
              <a:t>Вопрос № 2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2401"/>
              </a:spcBef>
              <a:buClr>
                <a:srgbClr val="5eaeff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ff"/>
                </a:solidFill>
                <a:uFillTx/>
                <a:latin typeface="Times New Roman"/>
                <a:hlinkClick r:id="rId3" action="ppaction://hlinksldjump"/>
              </a:rPr>
              <a:t>Вопрос № 3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2401"/>
              </a:spcBef>
              <a:buClr>
                <a:srgbClr val="5eaeff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Вопрос № 4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2401"/>
              </a:spcBef>
              <a:buClr>
                <a:srgbClr val="5eaeff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ff"/>
                </a:solidFill>
                <a:uFillTx/>
                <a:latin typeface="Times New Roman"/>
                <a:hlinkClick r:id="rId5" action="ppaction://hlinksldjump"/>
              </a:rPr>
              <a:t>Вопрос № 5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2401"/>
              </a:spcBef>
              <a:buClr>
                <a:srgbClr val="5eaeff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Вопрос № 6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2401"/>
              </a:spcBef>
              <a:buClr>
                <a:srgbClr val="5eaeff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Вопрос № 7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2401"/>
              </a:spcBef>
              <a:buClr>
                <a:srgbClr val="5eaeff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787640" y="1196640"/>
            <a:ext cx="327636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2401"/>
              </a:spcBef>
              <a:buClr>
                <a:srgbClr val="5eaeff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ff"/>
                </a:solidFill>
                <a:uFillTx/>
                <a:latin typeface="Times New Roman"/>
                <a:hlinkClick r:id="rId8" action="ppaction://hlinksldjump"/>
              </a:rPr>
              <a:t>Вопрос №  8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2401"/>
              </a:spcBef>
              <a:buClr>
                <a:srgbClr val="5eaeff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ff"/>
                </a:solidFill>
                <a:uFillTx/>
                <a:latin typeface="Times New Roman"/>
                <a:hlinkClick r:id="rId9" action="ppaction://hlinksldjump"/>
              </a:rPr>
              <a:t>Вопрос № 9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2401"/>
              </a:spcBef>
              <a:buClr>
                <a:srgbClr val="5eaeff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ff"/>
                </a:solidFill>
                <a:uFillTx/>
                <a:latin typeface="Times New Roman"/>
                <a:hlinkClick r:id="rId10" action="ppaction://hlinksldjump"/>
              </a:rPr>
              <a:t>Вопрос № 10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2401"/>
              </a:spcBef>
              <a:buClr>
                <a:srgbClr val="5eaeff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ff"/>
                </a:solidFill>
                <a:uFillTx/>
                <a:latin typeface="Times New Roman"/>
                <a:hlinkClick r:id="rId11" action="ppaction://hlinksldjump"/>
              </a:rPr>
              <a:t>Вопрос № 11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2401"/>
              </a:spcBef>
              <a:buClr>
                <a:srgbClr val="5eaeff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ff"/>
                </a:solidFill>
                <a:uFillTx/>
                <a:latin typeface="Times New Roman"/>
                <a:hlinkClick r:id="rId12" action="ppaction://hlinksldjump"/>
              </a:rPr>
              <a:t>Вопрос № 12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2401"/>
              </a:spcBef>
              <a:buClr>
                <a:srgbClr val="5eaeff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ff"/>
                </a:solidFill>
                <a:uFillTx/>
                <a:latin typeface="Times New Roman"/>
                <a:hlinkClick r:id="rId13" action="ppaction://hlinksldjump"/>
              </a:rPr>
              <a:t>Вопрос № 13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2401"/>
              </a:spcBef>
              <a:buClr>
                <a:srgbClr val="5eaeff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ff"/>
                </a:solidFill>
                <a:uFillTx/>
                <a:latin typeface="Times New Roman"/>
                <a:hlinkClick r:id="rId14" action="ppaction://hlinksldjump"/>
              </a:rPr>
              <a:t>Вопрос № 14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80ff"/>
                </a:solidFill>
                <a:uFillTx/>
                <a:latin typeface="Century Gothic"/>
                <a:hlinkClick r:id="rId15" action="ppaction://hlinksldjump"/>
              </a:rPr>
              <a:t>Задание 3.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51" name="AutoShape 4">
            <a:hlinkClick r:id="" action="ppaction://hlinkshowjump?jump=endshow"/>
          </p:cNvPr>
          <p:cNvSpPr/>
          <p:nvPr/>
        </p:nvSpPr>
        <p:spPr>
          <a:xfrm>
            <a:off x="7572240" y="5786280"/>
            <a:ext cx="755640" cy="576360"/>
          </a:xfrm>
          <a:custGeom>
            <a:avLst/>
            <a:gdLst>
              <a:gd name="textAreaLeft" fmla="*/ 37080 w 755640"/>
              <a:gd name="textAreaRight" fmla="*/ 718560 w 755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8315" h="21600">
                <a:moveTo>
                  <a:pt x="0" y="0"/>
                </a:moveTo>
                <a:lnTo>
                  <a:pt x="28315" y="0"/>
                </a:lnTo>
                <a:lnTo>
                  <a:pt x="28315" y="21600"/>
                </a:lnTo>
                <a:lnTo>
                  <a:pt x="0" y="21600"/>
                </a:lnTo>
                <a:close/>
              </a:path>
              <a:path fill="lightenLess" w="28315" h="21600">
                <a:moveTo>
                  <a:pt x="0" y="0"/>
                </a:moveTo>
                <a:lnTo>
                  <a:pt x="28315" y="0"/>
                </a:lnTo>
                <a:lnTo>
                  <a:pt x="26915" y="1400"/>
                </a:lnTo>
                <a:lnTo>
                  <a:pt x="1400" y="1400"/>
                </a:lnTo>
                <a:close/>
              </a:path>
              <a:path fill="darken" w="28315" h="21600">
                <a:moveTo>
                  <a:pt x="28315" y="0"/>
                </a:moveTo>
                <a:lnTo>
                  <a:pt x="28315" y="21600"/>
                </a:lnTo>
                <a:lnTo>
                  <a:pt x="26915" y="20200"/>
                </a:lnTo>
                <a:lnTo>
                  <a:pt x="26915" y="1400"/>
                </a:lnTo>
                <a:close/>
              </a:path>
              <a:path fill="darkenLess" w="28315" h="21600">
                <a:moveTo>
                  <a:pt x="28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15" y="20200"/>
                </a:lnTo>
                <a:close/>
              </a:path>
              <a:path fill="lighten" w="28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вершение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ка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Times New Roman"/>
              </a:rPr>
              <a:t>Вопрос № 1</a:t>
            </a:r>
            <a:endParaRPr b="0" lang="en-US" sz="32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4000" y="1568160"/>
            <a:ext cx="76215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Times New Roman"/>
              </a:rPr>
              <a:t>Текстовой редактор — это программа, предназначенная для: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Times New Roman"/>
              </a:rPr>
              <a:t>1) создания, редактирования и форматирования текстовой информации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Times New Roman"/>
              </a:rPr>
              <a:t>2) работы с изображениями в процессе создания игровых программ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Times New Roman"/>
              </a:rPr>
              <a:t>3) автоматического перевода с символических языков в машинные коды.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54" name="AutoShape 5">
            <a:hlinkClick r:id="rId1" action="ppaction://hlinksldjump"/>
          </p:cNvPr>
          <p:cNvSpPr/>
          <p:nvPr/>
        </p:nvSpPr>
        <p:spPr>
          <a:xfrm>
            <a:off x="8305920" y="6095880"/>
            <a:ext cx="552240" cy="547920"/>
          </a:xfrm>
          <a:custGeom>
            <a:avLst/>
            <a:gdLst>
              <a:gd name="textAreaLeft" fmla="*/ 35280 w 552240"/>
              <a:gd name="textAreaRight" fmla="*/ 516960 w 552240"/>
              <a:gd name="textAreaTop" fmla="*/ 35280 h 547920"/>
              <a:gd name="textAreaBottom" fmla="*/ 512640 h 547920"/>
            </a:gdLst>
            <a:ahLst/>
            <a:rect l="textAreaLeft" t="textAreaTop" r="textAreaRight" b="textAreaBottom"/>
            <a:pathLst>
              <a:path w="21770" h="21600">
                <a:moveTo>
                  <a:pt x="0" y="0"/>
                </a:moveTo>
                <a:lnTo>
                  <a:pt x="21770" y="0"/>
                </a:lnTo>
                <a:lnTo>
                  <a:pt x="21770" y="21600"/>
                </a:lnTo>
                <a:lnTo>
                  <a:pt x="0" y="21600"/>
                </a:lnTo>
                <a:close/>
              </a:path>
              <a:path fill="lightenLess" w="21770" h="21600">
                <a:moveTo>
                  <a:pt x="0" y="0"/>
                </a:moveTo>
                <a:lnTo>
                  <a:pt x="21770" y="0"/>
                </a:lnTo>
                <a:lnTo>
                  <a:pt x="20370" y="1400"/>
                </a:lnTo>
                <a:lnTo>
                  <a:pt x="1400" y="1400"/>
                </a:lnTo>
                <a:close/>
              </a:path>
              <a:path fill="darken" w="21770" h="21600">
                <a:moveTo>
                  <a:pt x="21770" y="0"/>
                </a:moveTo>
                <a:lnTo>
                  <a:pt x="21770" y="21600"/>
                </a:lnTo>
                <a:lnTo>
                  <a:pt x="20370" y="20200"/>
                </a:lnTo>
                <a:lnTo>
                  <a:pt x="20370" y="1400"/>
                </a:lnTo>
                <a:close/>
              </a:path>
              <a:path fill="darkenLess" w="21770" h="21600">
                <a:moveTo>
                  <a:pt x="21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70" y="20200"/>
                </a:lnTo>
                <a:close/>
              </a:path>
              <a:path fill="lighten" w="21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70" h="21600">
                <a:moveTo>
                  <a:pt x="10885" y="3837"/>
                </a:moveTo>
                <a:lnTo>
                  <a:pt x="13461" y="6448"/>
                </a:ln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lnTo>
                  <a:pt x="17848" y="10800"/>
                </a:lnTo>
                <a:lnTo>
                  <a:pt x="16194" y="10800"/>
                </a:lnTo>
                <a:lnTo>
                  <a:pt x="16194" y="17989"/>
                </a:lnTo>
                <a:lnTo>
                  <a:pt x="5576" y="17989"/>
                </a:lnTo>
                <a:lnTo>
                  <a:pt x="5576" y="10800"/>
                </a:lnTo>
                <a:lnTo>
                  <a:pt x="3922" y="10800"/>
                </a:lnTo>
                <a:close/>
              </a:path>
              <a:path fill="darkenLess" w="21770" h="21600">
                <a:moveTo>
                  <a:pt x="13461" y="6448"/>
                </a:move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close/>
              </a:path>
              <a:path fill="darkenLess" w="21770" h="21600">
                <a:moveTo>
                  <a:pt x="9963" y="14299"/>
                </a:moveTo>
                <a:lnTo>
                  <a:pt x="11808" y="14299"/>
                </a:lnTo>
                <a:lnTo>
                  <a:pt x="11808" y="17989"/>
                </a:lnTo>
                <a:lnTo>
                  <a:pt x="16194" y="17989"/>
                </a:lnTo>
                <a:lnTo>
                  <a:pt x="16194" y="10800"/>
                </a:lnTo>
                <a:lnTo>
                  <a:pt x="5576" y="10800"/>
                </a:lnTo>
                <a:lnTo>
                  <a:pt x="5576" y="17989"/>
                </a:lnTo>
                <a:lnTo>
                  <a:pt x="9963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6294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Times New Roman"/>
              </a:rPr>
              <a:t>Вопрос № 2</a:t>
            </a:r>
            <a:endParaRPr b="0" lang="en-US" sz="32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755280" y="1483920"/>
            <a:ext cx="70642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Times New Roman"/>
              </a:rPr>
              <a:t>Сообщение о местоположении курсора, указывается: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Times New Roman"/>
              </a:rPr>
              <a:t>1) в строке состояния текстового редактора; 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Times New Roman"/>
              </a:rPr>
              <a:t>2) в окне текстового редактора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Times New Roman"/>
              </a:rPr>
              <a:t>3) на панели задач.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57" name="AutoShape 5">
            <a:hlinkClick r:id="rId1" action="ppaction://hlinksldjump"/>
          </p:cNvPr>
          <p:cNvSpPr/>
          <p:nvPr/>
        </p:nvSpPr>
        <p:spPr>
          <a:xfrm>
            <a:off x="8305920" y="6095880"/>
            <a:ext cx="552240" cy="547920"/>
          </a:xfrm>
          <a:custGeom>
            <a:avLst/>
            <a:gdLst>
              <a:gd name="textAreaLeft" fmla="*/ 35280 w 552240"/>
              <a:gd name="textAreaRight" fmla="*/ 516960 w 552240"/>
              <a:gd name="textAreaTop" fmla="*/ 35280 h 547920"/>
              <a:gd name="textAreaBottom" fmla="*/ 512640 h 547920"/>
            </a:gdLst>
            <a:ahLst/>
            <a:rect l="textAreaLeft" t="textAreaTop" r="textAreaRight" b="textAreaBottom"/>
            <a:pathLst>
              <a:path w="21770" h="21600">
                <a:moveTo>
                  <a:pt x="0" y="0"/>
                </a:moveTo>
                <a:lnTo>
                  <a:pt x="21770" y="0"/>
                </a:lnTo>
                <a:lnTo>
                  <a:pt x="21770" y="21600"/>
                </a:lnTo>
                <a:lnTo>
                  <a:pt x="0" y="21600"/>
                </a:lnTo>
                <a:close/>
              </a:path>
              <a:path fill="lightenLess" w="21770" h="21600">
                <a:moveTo>
                  <a:pt x="0" y="0"/>
                </a:moveTo>
                <a:lnTo>
                  <a:pt x="21770" y="0"/>
                </a:lnTo>
                <a:lnTo>
                  <a:pt x="20370" y="1400"/>
                </a:lnTo>
                <a:lnTo>
                  <a:pt x="1400" y="1400"/>
                </a:lnTo>
                <a:close/>
              </a:path>
              <a:path fill="darken" w="21770" h="21600">
                <a:moveTo>
                  <a:pt x="21770" y="0"/>
                </a:moveTo>
                <a:lnTo>
                  <a:pt x="21770" y="21600"/>
                </a:lnTo>
                <a:lnTo>
                  <a:pt x="20370" y="20200"/>
                </a:lnTo>
                <a:lnTo>
                  <a:pt x="20370" y="1400"/>
                </a:lnTo>
                <a:close/>
              </a:path>
              <a:path fill="darkenLess" w="21770" h="21600">
                <a:moveTo>
                  <a:pt x="21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70" y="20200"/>
                </a:lnTo>
                <a:close/>
              </a:path>
              <a:path fill="lighten" w="21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70" h="21600">
                <a:moveTo>
                  <a:pt x="10885" y="3837"/>
                </a:moveTo>
                <a:lnTo>
                  <a:pt x="13461" y="6448"/>
                </a:ln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lnTo>
                  <a:pt x="17848" y="10800"/>
                </a:lnTo>
                <a:lnTo>
                  <a:pt x="16194" y="10800"/>
                </a:lnTo>
                <a:lnTo>
                  <a:pt x="16194" y="17989"/>
                </a:lnTo>
                <a:lnTo>
                  <a:pt x="5576" y="17989"/>
                </a:lnTo>
                <a:lnTo>
                  <a:pt x="5576" y="10800"/>
                </a:lnTo>
                <a:lnTo>
                  <a:pt x="3922" y="10800"/>
                </a:lnTo>
                <a:close/>
              </a:path>
              <a:path fill="darkenLess" w="21770" h="21600">
                <a:moveTo>
                  <a:pt x="13461" y="6448"/>
                </a:move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close/>
              </a:path>
              <a:path fill="darkenLess" w="21770" h="21600">
                <a:moveTo>
                  <a:pt x="9963" y="14299"/>
                </a:moveTo>
                <a:lnTo>
                  <a:pt x="11808" y="14299"/>
                </a:lnTo>
                <a:lnTo>
                  <a:pt x="11808" y="17989"/>
                </a:lnTo>
                <a:lnTo>
                  <a:pt x="16194" y="17989"/>
                </a:lnTo>
                <a:lnTo>
                  <a:pt x="16194" y="10800"/>
                </a:lnTo>
                <a:lnTo>
                  <a:pt x="5576" y="10800"/>
                </a:lnTo>
                <a:lnTo>
                  <a:pt x="5576" y="17989"/>
                </a:lnTo>
                <a:lnTo>
                  <a:pt x="9963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опрос № </a:t>
            </a: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Times New Roman"/>
              </a:rPr>
              <a:t>3</a:t>
            </a:r>
            <a:endParaRPr b="0" lang="en-US" sz="32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55280" y="1700280"/>
            <a:ext cx="706428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</a:rPr>
              <a:t>С помощью компьютера текстовую информацию  можно: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</a:rPr>
              <a:t>1) только хранить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</a:rPr>
              <a:t>2) хранить, получать и обрабатывать;  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</a:rPr>
              <a:t>3) только получать.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60" name="AutoShape 5">
            <a:hlinkClick r:id="rId1" action="ppaction://hlinksldjump"/>
          </p:cNvPr>
          <p:cNvSpPr/>
          <p:nvPr/>
        </p:nvSpPr>
        <p:spPr>
          <a:xfrm>
            <a:off x="8305920" y="6095880"/>
            <a:ext cx="552240" cy="547920"/>
          </a:xfrm>
          <a:custGeom>
            <a:avLst/>
            <a:gdLst>
              <a:gd name="textAreaLeft" fmla="*/ 35280 w 552240"/>
              <a:gd name="textAreaRight" fmla="*/ 516960 w 552240"/>
              <a:gd name="textAreaTop" fmla="*/ 35280 h 547920"/>
              <a:gd name="textAreaBottom" fmla="*/ 512640 h 547920"/>
            </a:gdLst>
            <a:ahLst/>
            <a:rect l="textAreaLeft" t="textAreaTop" r="textAreaRight" b="textAreaBottom"/>
            <a:pathLst>
              <a:path w="21770" h="21600">
                <a:moveTo>
                  <a:pt x="0" y="0"/>
                </a:moveTo>
                <a:lnTo>
                  <a:pt x="21770" y="0"/>
                </a:lnTo>
                <a:lnTo>
                  <a:pt x="21770" y="21600"/>
                </a:lnTo>
                <a:lnTo>
                  <a:pt x="0" y="21600"/>
                </a:lnTo>
                <a:close/>
              </a:path>
              <a:path fill="lightenLess" w="21770" h="21600">
                <a:moveTo>
                  <a:pt x="0" y="0"/>
                </a:moveTo>
                <a:lnTo>
                  <a:pt x="21770" y="0"/>
                </a:lnTo>
                <a:lnTo>
                  <a:pt x="20370" y="1400"/>
                </a:lnTo>
                <a:lnTo>
                  <a:pt x="1400" y="1400"/>
                </a:lnTo>
                <a:close/>
              </a:path>
              <a:path fill="darken" w="21770" h="21600">
                <a:moveTo>
                  <a:pt x="21770" y="0"/>
                </a:moveTo>
                <a:lnTo>
                  <a:pt x="21770" y="21600"/>
                </a:lnTo>
                <a:lnTo>
                  <a:pt x="20370" y="20200"/>
                </a:lnTo>
                <a:lnTo>
                  <a:pt x="20370" y="1400"/>
                </a:lnTo>
                <a:close/>
              </a:path>
              <a:path fill="darkenLess" w="21770" h="21600">
                <a:moveTo>
                  <a:pt x="21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70" y="20200"/>
                </a:lnTo>
                <a:close/>
              </a:path>
              <a:path fill="lighten" w="21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70" h="21600">
                <a:moveTo>
                  <a:pt x="10885" y="3837"/>
                </a:moveTo>
                <a:lnTo>
                  <a:pt x="13461" y="6448"/>
                </a:ln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lnTo>
                  <a:pt x="17848" y="10800"/>
                </a:lnTo>
                <a:lnTo>
                  <a:pt x="16194" y="10800"/>
                </a:lnTo>
                <a:lnTo>
                  <a:pt x="16194" y="17989"/>
                </a:lnTo>
                <a:lnTo>
                  <a:pt x="5576" y="17989"/>
                </a:lnTo>
                <a:lnTo>
                  <a:pt x="5576" y="10800"/>
                </a:lnTo>
                <a:lnTo>
                  <a:pt x="3922" y="10800"/>
                </a:lnTo>
                <a:close/>
              </a:path>
              <a:path fill="darkenLess" w="21770" h="21600">
                <a:moveTo>
                  <a:pt x="13461" y="6448"/>
                </a:move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close/>
              </a:path>
              <a:path fill="darkenLess" w="21770" h="21600">
                <a:moveTo>
                  <a:pt x="9963" y="14299"/>
                </a:moveTo>
                <a:lnTo>
                  <a:pt x="11808" y="14299"/>
                </a:lnTo>
                <a:lnTo>
                  <a:pt x="11808" y="17989"/>
                </a:lnTo>
                <a:lnTo>
                  <a:pt x="16194" y="17989"/>
                </a:lnTo>
                <a:lnTo>
                  <a:pt x="16194" y="10800"/>
                </a:lnTo>
                <a:lnTo>
                  <a:pt x="5576" y="10800"/>
                </a:lnTo>
                <a:lnTo>
                  <a:pt x="5576" y="17989"/>
                </a:lnTo>
                <a:lnTo>
                  <a:pt x="9963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5,-124,69)"/>
                                      </p:to>
                                    </p:set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5,-124,69)"/>
                                      </p:to>
                                    </p:set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057040" y="549360"/>
            <a:ext cx="6629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опрос № 4</a:t>
            </a:r>
            <a:br>
              <a:rPr sz="2800"/>
            </a:br>
            <a:endParaRPr b="0" lang="en-US" sz="32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64840" y="1413000"/>
            <a:ext cx="777708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Редактирование текста представляет собой: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1) процесс внесения изменений в имеющийся текст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2) процедуру сохранения текста на диске в виде текстового файла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3) процесс передачи текстовой информации по компьютерной сети.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63" name="AutoShape 5">
            <a:hlinkClick r:id="rId1" action="ppaction://hlinksldjump"/>
          </p:cNvPr>
          <p:cNvSpPr/>
          <p:nvPr/>
        </p:nvSpPr>
        <p:spPr>
          <a:xfrm>
            <a:off x="8305920" y="6095880"/>
            <a:ext cx="552240" cy="547920"/>
          </a:xfrm>
          <a:custGeom>
            <a:avLst/>
            <a:gdLst>
              <a:gd name="textAreaLeft" fmla="*/ 35280 w 552240"/>
              <a:gd name="textAreaRight" fmla="*/ 516960 w 552240"/>
              <a:gd name="textAreaTop" fmla="*/ 35280 h 547920"/>
              <a:gd name="textAreaBottom" fmla="*/ 512640 h 547920"/>
            </a:gdLst>
            <a:ahLst/>
            <a:rect l="textAreaLeft" t="textAreaTop" r="textAreaRight" b="textAreaBottom"/>
            <a:pathLst>
              <a:path w="21770" h="21600">
                <a:moveTo>
                  <a:pt x="0" y="0"/>
                </a:moveTo>
                <a:lnTo>
                  <a:pt x="21770" y="0"/>
                </a:lnTo>
                <a:lnTo>
                  <a:pt x="21770" y="21600"/>
                </a:lnTo>
                <a:lnTo>
                  <a:pt x="0" y="21600"/>
                </a:lnTo>
                <a:close/>
              </a:path>
              <a:path fill="lightenLess" w="21770" h="21600">
                <a:moveTo>
                  <a:pt x="0" y="0"/>
                </a:moveTo>
                <a:lnTo>
                  <a:pt x="21770" y="0"/>
                </a:lnTo>
                <a:lnTo>
                  <a:pt x="20370" y="1400"/>
                </a:lnTo>
                <a:lnTo>
                  <a:pt x="1400" y="1400"/>
                </a:lnTo>
                <a:close/>
              </a:path>
              <a:path fill="darken" w="21770" h="21600">
                <a:moveTo>
                  <a:pt x="21770" y="0"/>
                </a:moveTo>
                <a:lnTo>
                  <a:pt x="21770" y="21600"/>
                </a:lnTo>
                <a:lnTo>
                  <a:pt x="20370" y="20200"/>
                </a:lnTo>
                <a:lnTo>
                  <a:pt x="20370" y="1400"/>
                </a:lnTo>
                <a:close/>
              </a:path>
              <a:path fill="darkenLess" w="21770" h="21600">
                <a:moveTo>
                  <a:pt x="21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70" y="20200"/>
                </a:lnTo>
                <a:close/>
              </a:path>
              <a:path fill="lighten" w="21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70" h="21600">
                <a:moveTo>
                  <a:pt x="10885" y="3837"/>
                </a:moveTo>
                <a:lnTo>
                  <a:pt x="13461" y="6448"/>
                </a:ln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lnTo>
                  <a:pt x="17848" y="10800"/>
                </a:lnTo>
                <a:lnTo>
                  <a:pt x="16194" y="10800"/>
                </a:lnTo>
                <a:lnTo>
                  <a:pt x="16194" y="17989"/>
                </a:lnTo>
                <a:lnTo>
                  <a:pt x="5576" y="17989"/>
                </a:lnTo>
                <a:lnTo>
                  <a:pt x="5576" y="10800"/>
                </a:lnTo>
                <a:lnTo>
                  <a:pt x="3922" y="10800"/>
                </a:lnTo>
                <a:close/>
              </a:path>
              <a:path fill="darkenLess" w="21770" h="21600">
                <a:moveTo>
                  <a:pt x="13461" y="6448"/>
                </a:move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close/>
              </a:path>
              <a:path fill="darkenLess" w="21770" h="21600">
                <a:moveTo>
                  <a:pt x="9963" y="14299"/>
                </a:moveTo>
                <a:lnTo>
                  <a:pt x="11808" y="14299"/>
                </a:lnTo>
                <a:lnTo>
                  <a:pt x="11808" y="17989"/>
                </a:lnTo>
                <a:lnTo>
                  <a:pt x="16194" y="17989"/>
                </a:lnTo>
                <a:lnTo>
                  <a:pt x="16194" y="10800"/>
                </a:lnTo>
                <a:lnTo>
                  <a:pt x="5576" y="10800"/>
                </a:lnTo>
                <a:lnTo>
                  <a:pt x="5576" y="17989"/>
                </a:lnTo>
                <a:lnTo>
                  <a:pt x="9963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опрос № </a:t>
            </a: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Times New Roman"/>
              </a:rPr>
              <a:t>5</a:t>
            </a:r>
            <a:endParaRPr b="0" lang="en-US" sz="32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0920" y="1628640"/>
            <a:ext cx="784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Минимальным объектом, используемым в векторном графическом редакторе, является: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1) Точка экрана (пиксель)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2) знако-место (символ)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3) Объект (прямоугольник, круг и т.д.).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8305920" y="6095880"/>
            <a:ext cx="552240" cy="547920"/>
          </a:xfrm>
          <a:custGeom>
            <a:avLst/>
            <a:gdLst>
              <a:gd name="textAreaLeft" fmla="*/ 35280 w 552240"/>
              <a:gd name="textAreaRight" fmla="*/ 516960 w 552240"/>
              <a:gd name="textAreaTop" fmla="*/ 35280 h 547920"/>
              <a:gd name="textAreaBottom" fmla="*/ 512640 h 547920"/>
            </a:gdLst>
            <a:ahLst/>
            <a:rect l="textAreaLeft" t="textAreaTop" r="textAreaRight" b="textAreaBottom"/>
            <a:pathLst>
              <a:path w="21770" h="21600">
                <a:moveTo>
                  <a:pt x="0" y="0"/>
                </a:moveTo>
                <a:lnTo>
                  <a:pt x="21770" y="0"/>
                </a:lnTo>
                <a:lnTo>
                  <a:pt x="21770" y="21600"/>
                </a:lnTo>
                <a:lnTo>
                  <a:pt x="0" y="21600"/>
                </a:lnTo>
                <a:close/>
              </a:path>
              <a:path fill="lightenLess" w="21770" h="21600">
                <a:moveTo>
                  <a:pt x="0" y="0"/>
                </a:moveTo>
                <a:lnTo>
                  <a:pt x="21770" y="0"/>
                </a:lnTo>
                <a:lnTo>
                  <a:pt x="20370" y="1400"/>
                </a:lnTo>
                <a:lnTo>
                  <a:pt x="1400" y="1400"/>
                </a:lnTo>
                <a:close/>
              </a:path>
              <a:path fill="darken" w="21770" h="21600">
                <a:moveTo>
                  <a:pt x="21770" y="0"/>
                </a:moveTo>
                <a:lnTo>
                  <a:pt x="21770" y="21600"/>
                </a:lnTo>
                <a:lnTo>
                  <a:pt x="20370" y="20200"/>
                </a:lnTo>
                <a:lnTo>
                  <a:pt x="20370" y="1400"/>
                </a:lnTo>
                <a:close/>
              </a:path>
              <a:path fill="darkenLess" w="21770" h="21600">
                <a:moveTo>
                  <a:pt x="21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70" y="20200"/>
                </a:lnTo>
                <a:close/>
              </a:path>
              <a:path fill="lighten" w="21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70" h="21600">
                <a:moveTo>
                  <a:pt x="10885" y="3837"/>
                </a:moveTo>
                <a:lnTo>
                  <a:pt x="13461" y="6448"/>
                </a:ln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lnTo>
                  <a:pt x="17848" y="10800"/>
                </a:lnTo>
                <a:lnTo>
                  <a:pt x="16194" y="10800"/>
                </a:lnTo>
                <a:lnTo>
                  <a:pt x="16194" y="17989"/>
                </a:lnTo>
                <a:lnTo>
                  <a:pt x="5576" y="17989"/>
                </a:lnTo>
                <a:lnTo>
                  <a:pt x="5576" y="10800"/>
                </a:lnTo>
                <a:lnTo>
                  <a:pt x="3922" y="10800"/>
                </a:lnTo>
                <a:close/>
              </a:path>
              <a:path fill="darkenLess" w="21770" h="21600">
                <a:moveTo>
                  <a:pt x="13461" y="6448"/>
                </a:move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close/>
              </a:path>
              <a:path fill="darkenLess" w="21770" h="21600">
                <a:moveTo>
                  <a:pt x="9963" y="14299"/>
                </a:moveTo>
                <a:lnTo>
                  <a:pt x="11808" y="14299"/>
                </a:lnTo>
                <a:lnTo>
                  <a:pt x="11808" y="17989"/>
                </a:lnTo>
                <a:lnTo>
                  <a:pt x="16194" y="17989"/>
                </a:lnTo>
                <a:lnTo>
                  <a:pt x="16194" y="10800"/>
                </a:lnTo>
                <a:lnTo>
                  <a:pt x="5576" y="10800"/>
                </a:lnTo>
                <a:lnTo>
                  <a:pt x="5576" y="17989"/>
                </a:lnTo>
                <a:lnTo>
                  <a:pt x="9963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93840" y="3333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опрос № </a:t>
            </a: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Times New Roman"/>
              </a:rPr>
              <a:t>6</a:t>
            </a:r>
            <a:endParaRPr b="0" lang="en-US" sz="28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4360" y="1557000"/>
            <a:ext cx="79120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Какая операция не применяется для редактирования текста: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1) печать текста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2) удаление в тексте неверно набранного символа;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3) вставка пропущенного символа.</a:t>
            </a:r>
            <a:endParaRPr b="0" lang="en-US" sz="28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8305920" y="6095880"/>
            <a:ext cx="552240" cy="547920"/>
          </a:xfrm>
          <a:custGeom>
            <a:avLst/>
            <a:gdLst>
              <a:gd name="textAreaLeft" fmla="*/ 35280 w 552240"/>
              <a:gd name="textAreaRight" fmla="*/ 516960 w 552240"/>
              <a:gd name="textAreaTop" fmla="*/ 35280 h 547920"/>
              <a:gd name="textAreaBottom" fmla="*/ 512640 h 547920"/>
            </a:gdLst>
            <a:ahLst/>
            <a:rect l="textAreaLeft" t="textAreaTop" r="textAreaRight" b="textAreaBottom"/>
            <a:pathLst>
              <a:path w="21770" h="21600">
                <a:moveTo>
                  <a:pt x="0" y="0"/>
                </a:moveTo>
                <a:lnTo>
                  <a:pt x="21770" y="0"/>
                </a:lnTo>
                <a:lnTo>
                  <a:pt x="21770" y="21600"/>
                </a:lnTo>
                <a:lnTo>
                  <a:pt x="0" y="21600"/>
                </a:lnTo>
                <a:close/>
              </a:path>
              <a:path fill="lightenLess" w="21770" h="21600">
                <a:moveTo>
                  <a:pt x="0" y="0"/>
                </a:moveTo>
                <a:lnTo>
                  <a:pt x="21770" y="0"/>
                </a:lnTo>
                <a:lnTo>
                  <a:pt x="20370" y="1400"/>
                </a:lnTo>
                <a:lnTo>
                  <a:pt x="1400" y="1400"/>
                </a:lnTo>
                <a:close/>
              </a:path>
              <a:path fill="darken" w="21770" h="21600">
                <a:moveTo>
                  <a:pt x="21770" y="0"/>
                </a:moveTo>
                <a:lnTo>
                  <a:pt x="21770" y="21600"/>
                </a:lnTo>
                <a:lnTo>
                  <a:pt x="20370" y="20200"/>
                </a:lnTo>
                <a:lnTo>
                  <a:pt x="20370" y="1400"/>
                </a:lnTo>
                <a:close/>
              </a:path>
              <a:path fill="darkenLess" w="21770" h="21600">
                <a:moveTo>
                  <a:pt x="21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70" y="20200"/>
                </a:lnTo>
                <a:close/>
              </a:path>
              <a:path fill="lighten" w="21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70" h="21600">
                <a:moveTo>
                  <a:pt x="10885" y="3837"/>
                </a:moveTo>
                <a:lnTo>
                  <a:pt x="13461" y="6448"/>
                </a:ln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lnTo>
                  <a:pt x="17848" y="10800"/>
                </a:lnTo>
                <a:lnTo>
                  <a:pt x="16194" y="10800"/>
                </a:lnTo>
                <a:lnTo>
                  <a:pt x="16194" y="17989"/>
                </a:lnTo>
                <a:lnTo>
                  <a:pt x="5576" y="17989"/>
                </a:lnTo>
                <a:lnTo>
                  <a:pt x="5576" y="10800"/>
                </a:lnTo>
                <a:lnTo>
                  <a:pt x="3922" y="10800"/>
                </a:lnTo>
                <a:close/>
              </a:path>
              <a:path fill="darkenLess" w="21770" h="21600">
                <a:moveTo>
                  <a:pt x="13461" y="6448"/>
                </a:moveTo>
                <a:lnTo>
                  <a:pt x="13461" y="4707"/>
                </a:lnTo>
                <a:lnTo>
                  <a:pt x="15237" y="4707"/>
                </a:lnTo>
                <a:lnTo>
                  <a:pt x="15237" y="8224"/>
                </a:lnTo>
                <a:close/>
              </a:path>
              <a:path fill="darkenLess" w="21770" h="21600">
                <a:moveTo>
                  <a:pt x="9963" y="14299"/>
                </a:moveTo>
                <a:lnTo>
                  <a:pt x="11808" y="14299"/>
                </a:lnTo>
                <a:lnTo>
                  <a:pt x="11808" y="17989"/>
                </a:lnTo>
                <a:lnTo>
                  <a:pt x="16194" y="17989"/>
                </a:lnTo>
                <a:lnTo>
                  <a:pt x="16194" y="10800"/>
                </a:lnTo>
                <a:lnTo>
                  <a:pt x="5576" y="10800"/>
                </a:lnTo>
                <a:lnTo>
                  <a:pt x="5576" y="17989"/>
                </a:lnTo>
                <a:lnTo>
                  <a:pt x="9963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09:39:51Z</dcterms:created>
  <dc:creator>ВАСЯ</dc:creator>
  <dc:description/>
  <dc:language>en-US</dc:language>
  <cp:lastModifiedBy>ЛП</cp:lastModifiedBy>
  <dcterms:modified xsi:type="dcterms:W3CDTF">2013-02-14T19:58:08Z</dcterms:modified>
  <cp:revision>96</cp:revision>
  <dc:subject/>
  <dc:title>Методический материал   по информатике  Раздел: «Язык программирования QBASIC».</dc:title>
</cp:coreProperties>
</file>